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D45-EF7B-4A6E-ACF2-91AE722925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E73-8CE1-47D2-95C9-8D5C94B72FD3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024-0B3E-4BC6-9632-79DE73252D49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39DA-1D15-4750-B1C9-923EE4FF5B6E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6295-F41D-488F-BC62-17EF5FC64B24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0D35-CB8B-42A9-A5DE-768E7DFF9CFD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8B3-DF50-499B-91CB-90DC8318E93E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72A-E3E8-42E4-8907-C59EC895C121}" type="slidenum">
              <a:rPr b="0" lang="en-GB" sz="1200" spc="-1" strike="noStrike">
                <a:solidFill>
                  <a:srgbClr val="00008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814-97D4-4FEB-8BB9-48E2A280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1DE-97BE-479F-8353-1C460378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A25-810F-426F-A06C-E0F62A0B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8A0-6471-49DF-808C-28AF37E7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C59-6055-4D01-93DB-05D570D6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E3-7B42-4667-98F5-1F20F29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07E-0543-4717-B5F6-FB1B693D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391-26E1-4515-9928-67FD28DD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577-2169-4D9B-987E-38DDA3F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D6A-EDDE-4EE7-8B07-160CF9F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B2E-296A-4DB3-9224-8881C0C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36A-9ADA-4FD0-B507-CD5094C6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hyperlink" Target="http://www.epe.org.gr/" TargetMode="External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20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8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8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8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8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8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8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4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84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8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09A-50FF-479E-908D-958C1D24EE9C}" type="slidenum">
              <a:rPr b="0" lang="en-GB" sz="1400" spc="-1" strike="noStrike">
                <a:solidFill>
                  <a:srgbClr val="00008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6"/>
          <p:cNvGrpSpPr/>
          <p:nvPr/>
        </p:nvGrpSpPr>
        <p:grpSpPr>
          <a:xfrm>
            <a:off x="0" y="0"/>
            <a:ext cx="9061560" cy="1092960"/>
            <a:chOff x="0" y="0"/>
            <a:chExt cx="9061560" cy="1092960"/>
          </a:xfrm>
        </p:grpSpPr>
        <p:sp>
          <p:nvSpPr>
            <p:cNvPr id="9" name="Line 9"/>
            <p:cNvSpPr/>
            <p:nvPr/>
          </p:nvSpPr>
          <p:spPr>
            <a:xfrm flipV="1">
              <a:off x="2249640" y="844560"/>
              <a:ext cx="6691320" cy="15840"/>
            </a:xfrm>
            <a:prstGeom prst="line">
              <a:avLst/>
            </a:prstGeom>
            <a:ln w="83880">
              <a:solidFill>
                <a:srgbClr val="ff8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84"/>
                </a:solidFill>
                <a:latin typeface="Arial"/>
              </a:endParaRPr>
            </a:p>
          </p:txBody>
        </p:sp>
        <p:sp>
          <p:nvSpPr>
            <p:cNvPr id="10" name="Text Box 10"/>
            <p:cNvSpPr/>
            <p:nvPr/>
          </p:nvSpPr>
          <p:spPr>
            <a:xfrm>
              <a:off x="2195640" y="306360"/>
              <a:ext cx="331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84"/>
                  </a:solidFill>
                  <a:latin typeface="Tahoma"/>
                </a:rPr>
                <a:t>ΕΝΩΣΗ </a:t>
              </a:r>
              <a:endParaRPr b="0" lang="en-US" sz="1600" spc="-1" strike="noStrike">
                <a:solidFill>
                  <a:srgbClr val="00008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84"/>
                  </a:solidFill>
                  <a:latin typeface="Tahoma"/>
                </a:rPr>
                <a:t>ΠΛΗΡΟΦΟΡΙΚΩΝ ΕΛΛΑΔΑΣ</a:t>
              </a:r>
              <a:endParaRPr b="0" lang="en-US" sz="1600" spc="-1" strike="noStrike">
                <a:solidFill>
                  <a:srgbClr val="000084"/>
                </a:solidFill>
                <a:latin typeface="Arial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6473880" y="409680"/>
              <a:ext cx="258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4"/>
                  </a:solidFill>
                  <a:latin typeface="Tahoma"/>
                </a:rPr>
                <a:t>Web Site:</a:t>
              </a:r>
              <a:r>
                <a:rPr b="1" lang="el-GR" sz="1000" spc="-1" strike="noStrike">
                  <a:solidFill>
                    <a:srgbClr val="000084"/>
                  </a:solidFill>
                  <a:latin typeface="Tahoma"/>
                </a:rPr>
                <a:t> </a:t>
              </a:r>
              <a:r>
                <a:rPr b="0" lang="en-US" sz="1000" spc="-1" strike="noStrike" u="sng">
                  <a:solidFill>
                    <a:srgbClr val="000084"/>
                  </a:solidFill>
                  <a:uFillTx/>
                  <a:latin typeface="Tahoma"/>
                  <a:hlinkClick r:id="rId4"/>
                </a:rPr>
                <a:t>http://www.epe.org.gr</a:t>
              </a:r>
              <a:endParaRPr b="0" lang="en-US" sz="1000" spc="-1" strike="noStrike">
                <a:solidFill>
                  <a:srgbClr val="00008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4"/>
                  </a:solidFill>
                  <a:latin typeface="Tahoma"/>
                </a:rPr>
                <a:t>Email       : info@epe.org.gr</a:t>
              </a:r>
              <a:endParaRPr b="0" lang="en-US" sz="1000" spc="-1" strike="noStrike">
                <a:solidFill>
                  <a:srgbClr val="000084"/>
                </a:solidFill>
                <a:latin typeface="Arial"/>
              </a:endParaRPr>
            </a:p>
          </p:txBody>
        </p:sp>
        <p:graphicFrame>
          <p:nvGraphicFramePr>
            <p:cNvPr id="12" name="Object 13"/>
            <p:cNvGraphicFramePr/>
            <p:nvPr/>
          </p:nvGraphicFramePr>
          <p:xfrm>
            <a:off x="0" y="0"/>
            <a:ext cx="938160" cy="92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0"/>
                      <a:ext cx="93816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" name="Text Box 14"/>
            <p:cNvSpPr/>
            <p:nvPr/>
          </p:nvSpPr>
          <p:spPr>
            <a:xfrm>
              <a:off x="840240" y="176040"/>
              <a:ext cx="145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5400" spc="-1" strike="noStrike">
                  <a:solidFill>
                    <a:srgbClr val="ff8040"/>
                  </a:solidFill>
                  <a:latin typeface="Tahoma"/>
                </a:rPr>
                <a:t>ΕΠΕ</a:t>
              </a:r>
              <a:endParaRPr b="0" lang="en-US" sz="5400" spc="-1" strike="noStrike">
                <a:solidFill>
                  <a:srgbClr val="000084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pe.org.gr/" TargetMode="External"/><Relationship Id="rId2" Type="http://schemas.openxmlformats.org/officeDocument/2006/relationships/hyperlink" Target="mailto:info@epe.org.gr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-39600" y="2897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90000" tIns="-392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0" y="1557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84"/>
                </a:solidFill>
                <a:latin typeface="Tahoma"/>
              </a:rPr>
              <a:t>Το επαγγελματικό τοπίο στον κλάδο </a:t>
            </a:r>
            <a:br>
              <a:rPr sz="2400"/>
            </a:br>
            <a:r>
              <a:rPr b="1" lang="el-GR" sz="2400" spc="-1" strike="noStrike">
                <a:solidFill>
                  <a:srgbClr val="000084"/>
                </a:solidFill>
                <a:latin typeface="Tahoma"/>
              </a:rPr>
              <a:t>της Πληροφορικής &amp; των Επικοινωνιών </a:t>
            </a:r>
            <a:br>
              <a:rPr sz="2400"/>
            </a:b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4"/>
                </a:solidFill>
                <a:latin typeface="Arial"/>
              </a:rPr>
              <a:t>Web Site:</a:t>
            </a: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84"/>
                </a:solidFill>
                <a:uFillTx/>
                <a:latin typeface="Arial"/>
                <a:hlinkClick r:id="rId1"/>
              </a:rPr>
              <a:t>http://www.epe.org.gr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4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0084"/>
                </a:solidFill>
                <a:uFillTx/>
                <a:latin typeface="Arial"/>
                <a:hlinkClick r:id="rId2"/>
              </a:rPr>
              <a:t>info@epe.org.gr</a:t>
            </a:r>
            <a:r>
              <a:rPr b="1" lang="el-GR" sz="2400" spc="-1" strike="noStrike">
                <a:solidFill>
                  <a:srgbClr val="0000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142920" y="514188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84"/>
                </a:solidFill>
                <a:latin typeface="Tahoma"/>
              </a:rPr>
              <a:t>Γεώργιος Ανδρεαδάκης</a:t>
            </a:r>
            <a:endParaRPr b="0" lang="en-US" sz="20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84"/>
                </a:solidFill>
                <a:latin typeface="Tahoma"/>
              </a:rPr>
              <a:t>Διπλ. Μηχανικός Η/Υ &amp; Πληροφορικής, </a:t>
            </a:r>
            <a:r>
              <a:rPr b="0" lang="en-US" sz="2000" spc="-1" strike="noStrike">
                <a:solidFill>
                  <a:srgbClr val="000084"/>
                </a:solidFill>
                <a:latin typeface="Tahoma"/>
              </a:rPr>
              <a:t>BEng. MSc. CEng</a:t>
            </a:r>
            <a:endParaRPr b="0" lang="en-US" sz="20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84"/>
                </a:solidFill>
                <a:latin typeface="Tahoma"/>
              </a:rPr>
              <a:t>Υποψήφιος Διδάκτορας Πληροφορικής </a:t>
            </a:r>
            <a:r>
              <a:rPr b="0" lang="es-ES" sz="2000" spc="-1" strike="noStrike">
                <a:solidFill>
                  <a:srgbClr val="000084"/>
                </a:solidFill>
                <a:latin typeface="Tahoma"/>
              </a:rPr>
              <a:t>Universidad Carlos III, Madrid</a:t>
            </a:r>
            <a:r>
              <a:rPr b="0" lang="el-GR" sz="2000" spc="-1" strike="noStrike">
                <a:solidFill>
                  <a:srgbClr val="000084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8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84"/>
                </a:solidFill>
                <a:latin typeface="Tahoma"/>
              </a:rPr>
              <a:t>Ταμίας Ε.Π.Ε.</a:t>
            </a:r>
            <a:endParaRPr b="0" lang="en-US" sz="20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7 - TextBox"/>
          <p:cNvSpPr/>
          <p:nvPr/>
        </p:nvSpPr>
        <p:spPr>
          <a:xfrm>
            <a:off x="285840" y="1571760"/>
            <a:ext cx="88581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84"/>
                </a:solidFill>
                <a:latin typeface="Arial"/>
              </a:rPr>
              <a:t>Ν.2867/2000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«Οργάνωση και λειτουργία των τηλεπικοινωνιών και άλλες διατάξεις»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Να εκδοθούν Π.Δ. για να ρυθμίσουν θέματα μελετών, δημοσίων έργων, υπηρεσιών και εγκαταστάσεων ΤΠΕ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84"/>
                </a:solidFill>
                <a:latin typeface="Arial"/>
              </a:rPr>
              <a:t>Ν.3316/2005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«Ανάθεση και εκτέλεση δημοσίων συμβάσεων εκπόνησης μελετών και παροχής συναφών υπηρεσιών και άλλες διατάξεις»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νέα κατηγορία Μελετών (</a:t>
            </a:r>
            <a:r>
              <a:rPr b="0" lang="en-US" sz="2400" spc="-1" strike="noStrike">
                <a:solidFill>
                  <a:srgbClr val="000084"/>
                </a:solidFill>
                <a:latin typeface="Arial"/>
              </a:rPr>
              <a:t>no</a:t>
            </a: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 28) με τίτλο "Μελέτες Συστημάτων Πληροφορικής και Δικτύων«.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7 - TextBox"/>
          <p:cNvSpPr/>
          <p:nvPr/>
        </p:nvSpPr>
        <p:spPr>
          <a:xfrm>
            <a:off x="285840" y="1571760"/>
            <a:ext cx="8858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84"/>
                </a:solidFill>
                <a:latin typeface="Arial"/>
              </a:rPr>
              <a:t>Ν3431/2006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«Περί ηλεκτρονικών επικοινωνιών και άλλες διατάξεις»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Καταργούνται οι διατάξεις του Ν.2867/2000 περί της έκδοσης των Π.Δ. για τις μελέτες δημοσίων έργων, υπηρεσιών και εγκαταστάσεων ΤΠΕ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Περιλαμβάνει εξουσιοδότηση για την έκδοση ΚΥΑ που θα καθορίζει τις προδιαγραφές μελέτης, κατασκευής, συντήρησης και επίβλεψης τηλεπικοινωνιακών εγκαταστάσεων και εγκαταστάσεων πληροφορικής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7 - TextBox"/>
          <p:cNvSpPr/>
          <p:nvPr/>
        </p:nvSpPr>
        <p:spPr>
          <a:xfrm>
            <a:off x="285840" y="1571760"/>
            <a:ext cx="88581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84"/>
                </a:solidFill>
                <a:latin typeface="Arial"/>
              </a:rPr>
              <a:t>ΠΔ 138/2009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«Μητρώα Μελετητών και Εταιρειών Μελετών»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ανέβαλε την ενεργοποίηση της κατηγορίας 28, έως την    1-7-2011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«Αρμόδια υπηρεσία» για την τήρηση των μητρώων, τη χορήγηση των "πτυχίων" και την εκτίμηση της "εμπειρίας" είναι η </a:t>
            </a:r>
            <a:r>
              <a:rPr b="1" lang="el-GR" sz="2400" spc="-1" strike="noStrike">
                <a:solidFill>
                  <a:srgbClr val="000084"/>
                </a:solidFill>
                <a:latin typeface="Arial"/>
              </a:rPr>
              <a:t>Διεύθυνση Μητρώων και Τεχνικών Επαγγελμάτων</a:t>
            </a: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 (Δ 15) της Γενικής Γραμματείας Δημοσίων Έργων του Υπουργείου Περιβάλλοντος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4ετία για την εγγραφή στην Ά τάξη από την λήψη πτυχίου και κτήση άδειας άσκησης επαγγέλματος.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7 - TextBox"/>
          <p:cNvSpPr/>
          <p:nvPr/>
        </p:nvSpPr>
        <p:spPr>
          <a:xfrm>
            <a:off x="285840" y="1571760"/>
            <a:ext cx="8858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84"/>
                </a:solidFill>
                <a:latin typeface="Arial"/>
              </a:rPr>
              <a:t>Ιανουάριος 2010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84"/>
                </a:solidFill>
                <a:latin typeface="Arial"/>
              </a:rPr>
              <a:t>Δημόσια Διαβούλευση για τις μελέτες Πληροφορικής και Δικτύων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84"/>
                </a:solidFill>
                <a:latin typeface="Arial"/>
              </a:rPr>
              <a:t>Η ΕΠΕ έχει ήδη καταθέσει τις προτάσεις της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7 - TextBox"/>
          <p:cNvSpPr/>
          <p:nvPr/>
        </p:nvSpPr>
        <p:spPr>
          <a:xfrm>
            <a:off x="357120" y="1643040"/>
            <a:ext cx="850104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84"/>
                </a:solidFill>
                <a:latin typeface="Arial"/>
              </a:rPr>
              <a:t>Άλλα θέματα</a:t>
            </a:r>
            <a:endParaRPr b="0" lang="en-US" sz="28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Εθνικό πλαίσιο επαγγελματικών προσόντων 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Επαγγελματική Κατοχύρωση των Πληροφορικών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Επιμελητήριο ΕΘΕΕΠ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Εκπαίδευση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Επιχειρηματικότητα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buClr>
                <a:srgbClr val="0000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- TextBox"/>
          <p:cNvSpPr/>
          <p:nvPr/>
        </p:nvSpPr>
        <p:spPr>
          <a:xfrm>
            <a:off x="1000080" y="1481040"/>
            <a:ext cx="7072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"ΗΛΘΑΝ ΠΡΩΤΑ για τους κομμουνιστές,</a:t>
            </a: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αλλά δεν φώναξα γιατί δεν ήμουν κομμουνιστής.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ΗΛΘΑΝ ΜΕΤΑ για τους Εβραίους,</a:t>
            </a: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αλλά δεν φώναξα γιατί δεν ήμουν Εβραίος.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ΗΛΘΑΝ ΜΕΤΑ για τους συνδικαλιστές,</a:t>
            </a: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αλλά δεν φώναξα γιατί δεν ήμουν συνδικαλιστής.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ΗΛΘΑΝ ΜΕΤΑ για εμένα,</a:t>
            </a:r>
            <a:br>
              <a:rPr sz="2400"/>
            </a:b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αλλά δεν είχε μείνει κανείς για να φωνάξει."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8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4"/>
                </a:solidFill>
                <a:latin typeface="Arial"/>
              </a:rPr>
              <a:t>Martin Niemoller</a:t>
            </a: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84"/>
                </a:solidFill>
                <a:latin typeface="Tahoma"/>
              </a:rPr>
              <a:t>Ευχαριστώ για την προσοχή σας!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84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84"/>
                </a:solidFill>
                <a:latin typeface="Tahoma"/>
              </a:rPr>
              <a:t>gand@sch.gr)</a:t>
            </a:r>
            <a:endParaRPr b="0" lang="en-US" sz="2800" spc="-1" strike="noStrike">
              <a:solidFill>
                <a:srgbClr val="000084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8:33:44Z</dcterms:created>
  <dc:creator>George Andreadakis</dc:creator>
  <dc:description/>
  <dc:language>en-US</dc:language>
  <cp:lastModifiedBy>Yorgos Andreadakis</cp:lastModifiedBy>
  <dcterms:modified xsi:type="dcterms:W3CDTF">2010-05-15T07:43:29Z</dcterms:modified>
  <cp:revision>89</cp:revision>
  <dc:subject/>
  <dc:title>PowerPoint Presentation</dc:title>
</cp:coreProperties>
</file>